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E8C-D69A-4FC3-A37D-7F02E656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DBE-861D-4184-9AA0-B84705E4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FA7-7518-4198-A78A-1DCC3440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12D-2708-467D-AE9D-93916121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211-4610-428D-8FD4-D60B9CAD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423-1138-4FE9-94D1-3CBD6EF6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32B-9178-4C02-A2EF-FB507639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144-926E-4B41-AF8F-74D0C53A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405-232E-4EDF-BD69-B7F5676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96D-9676-4F45-9F4A-C259BD52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52B-3746-4E69-9B16-1C572949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0C0-D152-4B2C-8C54-DA3CC2D5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FD53-75E1-415D-AEE7-132CE173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51:36Z</dcterms:created>
  <dc:creator>Grupo Editorial</dc:creator>
  <dc:description/>
  <dc:language>en-US</dc:language>
  <cp:lastModifiedBy>Grupo Editorial</cp:lastModifiedBy>
  <dcterms:modified xsi:type="dcterms:W3CDTF">2001-11-13T10:54:16Z</dcterms:modified>
  <cp:revision>1</cp:revision>
  <dc:subject/>
  <dc:title>Sin título de diapositiva</dc:title>
</cp:coreProperties>
</file>